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F1F-3303-4DE1-878A-94E389A9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29D-99A2-4679-85BB-984B1301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E3F-45BA-4704-8491-815F920E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420-CEE1-4D70-B24E-43AB5603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007-05C1-4CDB-8E62-EA20AFB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5DC-E659-456D-A1B0-D3CE36AB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9FE-55D6-4EDF-B7F5-2420FA1F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817-22A5-463B-A400-A91CAFFA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989-E50B-4644-BA0C-852DCD17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CE7-E4EF-417E-97D3-878A95C2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80E-E688-4FE1-8806-C8731187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D5E-87A7-4157-8D0F-38D42B30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B3D9-69D9-4230-92F4-316341A03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1c11"/>
                </a:solidFill>
                <a:latin typeface="Calibri"/>
                <a:ea typeface="Times New Roman"/>
              </a:rPr>
              <a:t>Global E-Business: How Businesses Use Information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9f0f10"/>
                </a:solidFill>
                <a:latin typeface="Calibri"/>
                <a:ea typeface="Times New Roman"/>
              </a:rPr>
              <a:t>Enterprise Application Archite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9" descr="Fig-2-11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terpris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D:\Ken ppt -Ritu\ch2\images\laudonf02-16.gif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ly Chain Management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Fig-2-13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How Information Systems Facilitate Supply Chain Manag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Decide when, what to produce, store, m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Rapidly communicate ord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Communicate orders, track order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Check inventory availability, monitor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Track ship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Plan production based on actual dem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Rapidly  communicate product design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Provide product spec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Share information about defect rates,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Customer Relationship Management (CRM)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Manages all ways used by firms to deal with existing and potential new custo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Business and Technology discip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Uses information system to coordinate entire business processes of a fi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Provides end-to-end customer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Provides a unified view of customer across the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Consolidates customer data from multiple sources and provides analytical tools for answering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Customer Relationship Management (CRM)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4" descr="C:\MyData\MIS\LaudonEss5e\figures w_o NumTtl\FIG02-13.gif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alibri"/>
              </a:rPr>
              <a:t>Knowledge Management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reating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Discovering and codifying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haring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Distributing knowledg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52280" y="228600"/>
            <a:ext cx="47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tra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990720" y="10666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intra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it w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u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965320" y="2208240"/>
            <a:ext cx="6026400" cy="4497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28600" y="7621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Extra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it w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u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76662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76320" y="255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-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 flipH="1" flipV="1" rot="10800000">
            <a:off x="380880" y="8211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E-busi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E-busi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86000" y="1155600"/>
            <a:ext cx="678168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e1c11"/>
                </a:solidFill>
                <a:latin typeface="Arial"/>
                <a:ea typeface="Arial"/>
              </a:rPr>
              <a:t>We are going to focus 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iness processes and informatio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business informatio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s that span the enterpr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formation systems function in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0" y="28195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E-commer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E-commer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670536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2819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-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E-gover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E-gover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62040" y="1279440"/>
            <a:ext cx="75265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10253f"/>
                </a:solidFill>
                <a:latin typeface="Arial"/>
                <a:ea typeface="Arial"/>
              </a:rPr>
              <a:t>Business Processes and Information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2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Arial"/>
              </a:rPr>
              <a:t>Business process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e1c11"/>
                </a:solidFill>
                <a:latin typeface="Arial"/>
                <a:ea typeface="Arial"/>
              </a:rPr>
              <a:t>Manner in which work is organized, coordinated, and focused to produce a valuable product or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e1c11"/>
                </a:solidFill>
                <a:latin typeface="Arial"/>
                <a:ea typeface="Arial"/>
              </a:rPr>
              <a:t>Concrete work flows of material, information, and knowledge—sets of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e1c11"/>
                </a:solidFill>
                <a:latin typeface="Arial"/>
                <a:ea typeface="Arial"/>
              </a:rPr>
              <a:t>Unique ways to coordinate work, information, and knowledge</a:t>
            </a:r>
            <a:br>
              <a:rPr sz="2800"/>
            </a:br>
            <a:r>
              <a:rPr b="1" i="1" lang="en-US" sz="2800" spc="-1" strike="noStrike">
                <a:solidFill>
                  <a:srgbClr val="1e1c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e1c11"/>
                </a:solidFill>
                <a:latin typeface="Arial"/>
                <a:ea typeface="Arial"/>
              </a:rPr>
              <a:t>Ways in which management chooses to coordinate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6553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Information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ystem that collects and maintains information and provides it to people for decision making, progress reporting, and for planning and evaluation of pr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Information systems help organizations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Achieve great efficiencies by automating  parts of processes </a:t>
            </a:r>
            <a:br>
              <a:rPr sz="3200"/>
            </a:b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Rethink and streamline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Examples of Business Process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19320"/>
          <a:ext cx="8229600" cy="5410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tional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facturing and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mbling the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for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ing bills of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es and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ing cust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ing customers aware of the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ing the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 and ac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ing cred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ing financial stat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ing cash ac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ring employ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ng employees’ job perform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rolling employees in benefits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alibri"/>
              </a:rPr>
              <a:t>Cross-Functional Business Proc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385000" y="1001880"/>
            <a:ext cx="45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f0f10"/>
                </a:solidFill>
                <a:latin typeface="Calibri"/>
                <a:ea typeface="Times New Roman"/>
              </a:rPr>
              <a:t>The Order Fulfill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Fig-2-1"/>
          <p:cNvPicPr/>
          <p:nvPr/>
        </p:nvPicPr>
        <p:blipFill>
          <a:blip r:embed="rId1"/>
          <a:stretch/>
        </p:blipFill>
        <p:spPr>
          <a:xfrm>
            <a:off x="533520" y="1905120"/>
            <a:ext cx="8305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information technology enhances business proc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wo ways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the efficiency of existing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ing entirely new processes that are capable of transforming the busi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relationship among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7" descr="Fig-2-10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prise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enterprise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40315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Calibri"/>
              </a:rPr>
              <a:t>Enterpris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40315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Calibri"/>
              </a:rPr>
              <a:t>Supply chain management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40315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Calibri"/>
              </a:rPr>
              <a:t>Customer management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40315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Calibri"/>
              </a:rPr>
              <a:t>Knowledge management system</a:t>
            </a:r>
            <a:r>
              <a:rPr b="0" lang="en-US" sz="36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00:50:58Z</dcterms:created>
  <dc:creator>Adnan</dc:creator>
  <dc:description/>
  <dc:language>en-US</dc:language>
  <cp:lastModifiedBy>upsi</cp:lastModifiedBy>
  <dcterms:modified xsi:type="dcterms:W3CDTF">2010-07-13T17:46:58Z</dcterms:modified>
  <cp:revision>8</cp:revision>
  <dc:subject/>
  <dc:title>Slide 1</dc:title>
</cp:coreProperties>
</file>